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09D-42E7-4797-9E03-07E72996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9C1-2C6E-4FDE-877F-5E116D74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9CE-3404-4A4E-A91F-33C788C8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195-701C-4988-B156-8116737C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D13-E92A-4D69-A441-68E2517F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F30-3720-4216-9B33-4476DB86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C98-2A9A-4AB7-80F0-10137B2F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DDB-9FC7-4259-A2FC-5EF32A4D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80E-EE9F-4828-964D-E3382934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494-EDD5-41A6-AF73-E8F9005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5F0-03C4-4066-99FA-27766944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F4F-4AF9-4F67-B9CE-078778DB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2A9A-4F15-4AD5-AB32-D1B613C45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a4b8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4653000" cy="6172200"/>
          </a:xfrm>
          <a:prstGeom prst="rect">
            <a:avLst/>
          </a:prstGeom>
          <a:solidFill>
            <a:srgbClr val="e3e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2846160" cy="495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838080"/>
            <a:ext cx="22096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th System Mod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ust, Smoke Sulfate; Assimilated NASA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C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Aerosol Species, Fi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-Res Regional C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me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gnostic Plume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914400"/>
            <a:ext cx="206208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e &amp; Bene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EE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-Quality Jus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Reports &amp; E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avings States, 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Data Use in 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of Services &amp;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520"/>
            <a:ext cx="9144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7200" y="1447920"/>
            <a:ext cx="1905120" cy="227304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7200" y="3746520"/>
            <a:ext cx="1905120" cy="22194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79600" y="914400"/>
            <a:ext cx="2268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s/Fore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6200" y="6153120"/>
            <a:ext cx="2268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s, Parameters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1560" y="3614760"/>
            <a:ext cx="325440" cy="473040"/>
          </a:xfrm>
          <a:prstGeom prst="upArrow">
            <a:avLst>
              <a:gd name="adj1" fmla="val 50000"/>
              <a:gd name="adj2" fmla="val 363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86200"/>
            <a:ext cx="22096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th Observations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S A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I AerIndex, N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IP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rosol Chem. Co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Vi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port Wi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6657120" y="4010760"/>
            <a:ext cx="325440" cy="380880"/>
          </a:xfrm>
          <a:prstGeom prst="upArrow">
            <a:avLst>
              <a:gd name="adj1" fmla="val 50000"/>
              <a:gd name="adj2" fmla="val 29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52280" y="0"/>
            <a:ext cx="91440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3200"/>
            <a:ext cx="914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 Quality: Exceptional Event DSS  (Hu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1447920"/>
            <a:ext cx="167616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nental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undary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oke, Dust 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C WMS W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Oriented 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Integ. &amp;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SS Compa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rosol, Gas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+ Man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ptional Impa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657120" y="3172680"/>
            <a:ext cx="325440" cy="380880"/>
          </a:xfrm>
          <a:prstGeom prst="upArrow">
            <a:avLst>
              <a:gd name="adj1" fmla="val 50000"/>
              <a:gd name="adj2" fmla="val 29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62440" y="914400"/>
            <a:ext cx="194328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sion Support Systems, Assessments, Managemen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ptional Event D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ven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Source At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Temporal Anom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‘But For’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Samples to Fla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the Evid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EE Flag Val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a4b8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33520"/>
            <a:ext cx="4653000" cy="6172200"/>
          </a:xfrm>
          <a:prstGeom prst="rect">
            <a:avLst/>
          </a:prstGeom>
          <a:solidFill>
            <a:srgbClr val="e3e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284616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838080"/>
            <a:ext cx="22096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th System Mod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name, type, predictive capabilities, assimilations, other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914400"/>
            <a:ext cx="206208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e &amp; Bene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ments in the decision-making, decisions, and 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ctual, expected, estim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tative and qualitative benefits from the improved dec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ctual, expected, estim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33520"/>
            <a:ext cx="9144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27200" y="1447920"/>
            <a:ext cx="1905120" cy="227304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7200" y="3746520"/>
            <a:ext cx="1905120" cy="22194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79600" y="914400"/>
            <a:ext cx="2268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s/Fore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46200" y="6153120"/>
            <a:ext cx="2268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s, Parameters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1560" y="3614760"/>
            <a:ext cx="325440" cy="473040"/>
          </a:xfrm>
          <a:prstGeom prst="upArrow">
            <a:avLst>
              <a:gd name="adj1" fmla="val 50000"/>
              <a:gd name="adj2" fmla="val 363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886200"/>
            <a:ext cx="22096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th Observations</a:t>
            </a:r>
            <a:br>
              <a:rPr sz="15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.g., satellite, in situ)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ssion, sensor, data products, parameters, other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657120" y="4010760"/>
            <a:ext cx="325440" cy="380880"/>
          </a:xfrm>
          <a:prstGeom prst="upArrow">
            <a:avLst>
              <a:gd name="adj1" fmla="val 50000"/>
              <a:gd name="adj2" fmla="val 29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3200"/>
            <a:ext cx="914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SES-2007        National Application:  Project Name (PI Last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1447920"/>
            <a:ext cx="167616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products or types of predictions from the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interoperability, data fusion, and other information technology to support 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observations products or parameters feeding the D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6657120" y="3172680"/>
            <a:ext cx="325440" cy="380880"/>
          </a:xfrm>
          <a:prstGeom prst="upArrow">
            <a:avLst>
              <a:gd name="adj1" fmla="val 50000"/>
              <a:gd name="adj2" fmla="val 29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62440" y="914400"/>
            <a:ext cx="194328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sion Support Systems, Assessments, Managemen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of decision support  system or decisio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ecific analyses to support the decision ma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ecific Decisions / 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1:57:27Z</dcterms:created>
  <dc:creator>wturner</dc:creator>
  <dc:description/>
  <dc:language>en-US</dc:language>
  <cp:lastModifiedBy>Administrator</cp:lastModifiedBy>
  <dcterms:modified xsi:type="dcterms:W3CDTF">2008-08-12T16:56:08Z</dcterms:modified>
  <cp:revision>32</cp:revision>
  <dc:subject/>
  <dc:title>Slide 1</dc:title>
</cp:coreProperties>
</file>